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gif" ContentType="image/gif"/>
  <Override PartName="/ppt/media/image2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8.wmf" ContentType="image/x-wmf"/>
  <Override PartName="/ppt/media/image10.png" ContentType="image/png"/>
  <Override PartName="/ppt/media/image12.png" ContentType="image/png"/>
  <Override PartName="/ppt/media/image20.jpeg" ContentType="image/jpeg"/>
  <Override PartName="/ppt/media/image13.png" ContentType="image/png"/>
  <Override PartName="/ppt/media/image30.gif" ContentType="image/gif"/>
  <Override PartName="/ppt/media/image31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.png" ContentType="image/png"/>
  <Override PartName="/ppt/media/image19.gif" ContentType="image/gif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7D8-26EB-4A2F-BC05-3529AD35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011-C535-4265-8D7E-BDC2D8C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240-0426-40EB-834F-3E8D2F52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0C9-FDB9-4A64-A237-275B8BFD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0EB-B84F-4A82-B0E2-774D13F5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AE6-986E-4327-AA53-5CE635A4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7B1-6C6D-45B4-BE72-582FC823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A46-ECC2-4D76-ACA2-6589034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99E-210E-45AA-97E9-32605EC5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E43-78B9-40CF-AF4E-C10034C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037-94A4-4DD6-82B2-5E0767D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1CF-8134-4A84-A9D2-6E5D6F9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B70F-18F9-4871-910D-C0C382D7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wm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1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2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4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6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5229360"/>
            <a:ext cx="3600720" cy="131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51640" y="404640"/>
            <a:ext cx="1490760" cy="25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5084640"/>
            <a:ext cx="1396800" cy="146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333360"/>
            <a:ext cx="720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Îmi plac desenele animate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n epoca de piatră până az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140360" y="2997360"/>
            <a:ext cx="20905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300720" y="4005360"/>
            <a:ext cx="2521080" cy="217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556000" y="2997360"/>
            <a:ext cx="123660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26920" y="3284640"/>
            <a:ext cx="1248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2206440" cy="279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50920" y="836640"/>
            <a:ext cx="84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 ghicit unde a fos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nnie în vacanţ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4465440" cy="358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203640" y="3933720"/>
            <a:ext cx="187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 mar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Întors  în  pădure, Winnie  i-a  lăsat  un  mesaj  scris  prietenului  său, Bugs  Bun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48760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56000" y="836640"/>
            <a:ext cx="2041560" cy="561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3429000"/>
            <a:ext cx="360072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Pentru că  nu  îi  plăcea  să  citească,iepuraşul  a  turnat  un  pahar  cu  apă  pe  foaie, iar  acum  nu  se  înţelege  ce  a  scris  ursuleţul. Încearcă  tu  să  refaci  mesajul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Monotype Corsiva"/>
              </a:rPr>
              <a:t>Dragă  iepuraşul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u  am  fost  în  vacanţă  la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  fost  foarte……………..Razele  soarelui………….Apa  mării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 fiecare  zi………………….A  fost  bine, dar  mi-a  lipsit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2592360" cy="217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4.  Iată  ce  a  povestit  odată  ciocănitoarea  Wo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ra  toamna  târziu. Copacii  se  goliseră  de  frunze, dar  în  vârful  unui  măr  sălbatic mai  atârna  un  măr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epuraşul  îşi  dorea  să  ia  mărul, dar  nu  reuşi. O  rugă  pe  Tweety  să  îl  ia. Tweety  luă  mărul  dar  acesta  căzu  pe  spatele  unui  arici.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riat, ariciul  fugi  cu  mărul  în  spinare. Iepuraşul  îi  ceru  ariciului  să-i  dea  mărul, dar  acesta  spuse  că  mărul  e  al  lui. Tweety  dorea  şi  el  măr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81960" y="189000"/>
            <a:ext cx="1562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0000" y="476280"/>
            <a:ext cx="3005280" cy="561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887720" cy="4755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123696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340000" y="4005360"/>
            <a:ext cx="2808360" cy="1832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995640" y="620640"/>
            <a:ext cx="2016360" cy="170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3634920" y="3573360"/>
            <a:ext cx="949320" cy="993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une  în  ordine  propoziţiile  pentru  a  reface  dialogul  dintre  Bugs  Bunny, Tweety  şi  aric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147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Eu am rupt mărul din pom,deci e al meu! zise Twe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Tweety,rupe-mi măr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Stai!Stai!Unde fugi cu mărul m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Poft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ărul e al meu!Eu l-am prins!ţipă arici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ulţumesc!răspunse iepuraş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ată  răspunsul  cor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Tweety,rupe-mi măr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Poft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ulţumesc!răspunse iepuraş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Stai!Stai!Unde fugi cu mărul m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ărul e al meu!Eu l-am prins!ţipă arici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Eu am rupt mărul din pom,deci e al meu! zise Twe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000" y="333360"/>
            <a:ext cx="504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că nu se înţelegea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-au chemat ursul Yogi să facă drep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Cine a descoperit măr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Eu!spuse iepur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Dar cine l-a rupt din p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Fireşte că eu!ciripi Twe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Bine!Şi cine l-a pr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Eu l-am prins!a zis arici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Eeeei,zise ursul,toţi aveţi dreptate.Ce-ar fi să împărţim mărul în părţi eg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224160" cy="3700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148360" y="429264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Şi astfel fiecare prim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o bucăţică de măr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şi rămaseră prieten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ână azi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6000" y="5877000"/>
            <a:ext cx="29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alizator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st.Diana Lădari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43280" y="189000"/>
            <a:ext cx="403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URS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133720"/>
            <a:ext cx="79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.Cum comunică oamenii între ei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230640" cy="2630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148360" y="4365720"/>
            <a:ext cx="331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in mesaje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formaţ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1197000"/>
            <a:ext cx="7705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.Cum se realizează comunicarea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311640" cy="30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924360" y="3645000"/>
            <a:ext cx="4103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in  vorbire (oral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au  prin  scri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836640"/>
            <a:ext cx="85579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.Cum se numeş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el care transmite informaţia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9640" y="2637000"/>
            <a:ext cx="3073680" cy="388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0" y="3357720"/>
            <a:ext cx="3384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miţător  sa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orbito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476280"/>
            <a:ext cx="676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4.Cum se numeş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el care primeşte informaţia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4205160" cy="3957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219640" y="3789360"/>
            <a:ext cx="338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ceptor sa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scultăto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7049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692360" y="476280"/>
            <a:ext cx="5957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5.Ce este dialogul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476800" cy="4178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708360" y="3860640"/>
            <a:ext cx="5183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ialogul es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nvorbire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intre două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au mai  mul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ersoan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3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Chip  şi  Dale  s-au  certat. Fiecare  dintre  ei  consideră  că   a  transmis  un  mesaj  corect. Ajută-i  tu  să  se  împace,spunându-le  care  este  mesajul  co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1514520" cy="2038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050920" y="3357720"/>
            <a:ext cx="303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uminică  seara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451640" y="4653000"/>
            <a:ext cx="1390680" cy="196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4000" y="566100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uminică seara voi merge la circ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71640" y="333360"/>
            <a:ext cx="69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ăspunsul corect era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64000" y="2637000"/>
            <a:ext cx="194292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RAVO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4724280"/>
            <a:ext cx="496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 reuşit să-i împaci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2727360" cy="352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147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omic Sans MS"/>
              </a:rPr>
              <a:t>Ursuleţul Winnie va pleca în vacanţă. E foarte fericit,dar e prima oară când iese din pădure. Povesteşte-i tu cum e în vacanţă,dându-i câte o informaţie despre nisip,plajă,m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59280" y="3933720"/>
            <a:ext cx="2219040" cy="2664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20:22:07Z</dcterms:created>
  <dc:creator>Diana</dc:creator>
  <dc:description/>
  <dc:language>en-US</dc:language>
  <cp:lastModifiedBy>Diana</cp:lastModifiedBy>
  <dcterms:modified xsi:type="dcterms:W3CDTF">2008-10-26T16:58:54Z</dcterms:modified>
  <cp:revision>4</cp:revision>
  <dc:subject/>
  <dc:title>Diapozitivul 1</dc:title>
</cp:coreProperties>
</file>